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D0D-6D38-4CC6-B783-B428666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AD7-9E6E-47F0-97DA-1CCD45C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A8A-E73D-453C-950A-3996AC07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1CD-D9B8-4D88-852D-FD9AE73C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B16-F2F2-419E-B7A9-02624B5F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64B-BEE0-46E8-83DD-8CF50446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8DA-96CD-4B57-8AD5-16DB0E6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D5C-4F53-44AD-AB79-B3BD715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F6D0-9633-4534-A157-7686A741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AE97-A1A3-4CD2-B891-50A3CCE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94BB-6C88-4660-A1E0-6F9FB31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90C-B692-4664-A7B8-7B20E67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68DE-5B62-4181-A827-C4F4DEB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098C-B2CC-4B56-835D-1509E02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236C-1995-429C-97EC-E912304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D07-B0EC-4944-BC70-791CAB9A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B18-BD57-4F06-B99C-67EE0D2E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1F-223D-4E21-A92B-173FF239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C7-D7D4-4E15-A7E8-26E24F5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911-55F1-49EB-8BEF-6948E56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DCC-38D7-4A1D-84A5-67F0DB87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830-67C2-4EF3-BABF-8B1C6D2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9E1-EF8B-44E6-9FC6-41152F9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B15-F62E-4DFD-A14B-3AD7331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26F-F132-40BA-9D26-2C5DFC5A8FA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A681-CC01-4617-A9A4-39634EB04DE8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771640" y="1341360"/>
            <a:ext cx="3295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globalizza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87640" y="3068640"/>
            <a:ext cx="28242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979640" y="2781360"/>
            <a:ext cx="2592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834000">
            <a:off x="178920" y="1341360"/>
            <a:ext cx="2303640" cy="1584360"/>
          </a:xfrm>
          <a:prstGeom prst="rightArrow">
            <a:avLst>
              <a:gd name="adj1" fmla="val 50000"/>
              <a:gd name="adj2" fmla="val 3635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lior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zzi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21018600">
            <a:off x="178920" y="3284280"/>
            <a:ext cx="2159280" cy="1657080"/>
          </a:xfrm>
          <a:prstGeom prst="rightArrow">
            <a:avLst>
              <a:gd name="adj1" fmla="val 50000"/>
              <a:gd name="adj2" fmla="val 32577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lior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zzi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5661000"/>
            <a:ext cx="2232000" cy="9367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bera circol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24360" y="5516640"/>
            <a:ext cx="2592720" cy="7207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bera circol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476280"/>
            <a:ext cx="2160720" cy="5763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du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93080" y="1125360"/>
            <a:ext cx="2050920" cy="7909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i di vita pi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40000" y="386064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924360" y="1267920"/>
            <a:ext cx="107928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500720" y="2133720"/>
            <a:ext cx="223200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3645000"/>
            <a:ext cx="1584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4T09:33:09Z</dcterms:created>
  <dc:creator>PC01</dc:creator>
  <dc:description/>
  <dc:language>en-US</dc:language>
  <cp:lastModifiedBy>studente</cp:lastModifiedBy>
  <dcterms:modified xsi:type="dcterms:W3CDTF">2017-01-09T10:03:20Z</dcterms:modified>
  <cp:revision>8</cp:revision>
  <dc:subject/>
  <dc:title>Diapositiva 1</dc:title>
</cp:coreProperties>
</file>